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A63D-3E00-46A6-81EE-6D3C049F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B2D-C5CA-4948-A45C-0542D5A6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3F9-E44A-420C-8125-DE5D0E14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688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532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844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688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532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0A9-1D0E-47B0-BAE2-57C0CF82E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3F0B-42A0-4197-A67D-771D7D24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901A-84FB-4520-B754-A71F0422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9CA5-E4D8-4A5F-AC58-7A71503E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596A-580F-40C0-B22E-DC972203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F1C4-D066-4B64-AA60-4CBF9A33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08CA-5174-42EF-ADCB-22562844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FDA8-CCB5-4E18-9EFD-FFBB5FCB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F438-1D75-4A9D-AE82-954DBBE4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3FC-971D-4F6D-A6B4-77E1F81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7085-D773-4F8C-80EE-1F6A1E7A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29B8-466F-4452-9504-D8BDDAB5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61A8-113A-44E1-9110-BFE41DE5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1688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45320" y="164916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844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1688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45320" y="4011480"/>
            <a:ext cx="259812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F63E-6360-4C57-85E2-35D378D5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14A-019A-4B4F-91ED-B825204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1CF-F249-4F78-8325-7E18E7A7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5374-2B64-4442-905D-8938EA75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8C0-194E-4624-9DE6-1096DBA3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E0D-23C0-46F2-81C3-8B6738CD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23400" y="401148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139-55AF-4A0E-8A2D-A679E182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844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23400" y="1649160"/>
            <a:ext cx="393768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8440" y="4011480"/>
            <a:ext cx="8069400" cy="21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AAA-FF55-4353-8C91-1E92643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611280"/>
            <a:ext cx="8153280" cy="1600200"/>
            <a:chOff x="457200" y="61128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61128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77652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99720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32732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25A-B616-484F-8075-3D823D818A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8440" y="1649160"/>
            <a:ext cx="8069400" cy="452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0DB6-C5D2-4685-9D9E-E26D7F248F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0920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hemical Bond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82760" y="30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. Why Atoms Combine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1488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Chemical Formula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1488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Chemical Bond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1488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  <a:ea typeface="ヒラギノ角ゴ Pro W3"/>
              </a:rPr>
              <a:t>Stability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293760" y="3565440"/>
            <a:ext cx="39355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cc00"/>
                </a:solidFill>
                <a:latin typeface="Century Schoolbook"/>
              </a:rPr>
              <a:t>H</a:t>
            </a:r>
            <a:r>
              <a:rPr b="1" lang="en-US" sz="10000" spc="-1" strike="noStrike" baseline="-25000">
                <a:solidFill>
                  <a:srgbClr val="ffcc00"/>
                </a:solidFill>
                <a:latin typeface="Century Schoolbook"/>
              </a:rPr>
              <a:t>2</a:t>
            </a:r>
            <a:r>
              <a:rPr b="1" lang="en-US" sz="10000" spc="-1" strike="noStrike">
                <a:solidFill>
                  <a:srgbClr val="ffcc00"/>
                </a:solidFill>
                <a:latin typeface="Century Schoolbook"/>
              </a:rPr>
              <a:t>O</a:t>
            </a:r>
            <a:endParaRPr b="0" lang="en-US" sz="10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" name="Group 13"/>
          <p:cNvGrpSpPr/>
          <p:nvPr/>
        </p:nvGrpSpPr>
        <p:grpSpPr>
          <a:xfrm>
            <a:off x="2612520" y="5533920"/>
            <a:ext cx="5826600" cy="898560"/>
            <a:chOff x="2612520" y="5533920"/>
            <a:chExt cx="5826600" cy="898560"/>
          </a:xfrm>
        </p:grpSpPr>
        <p:sp>
          <p:nvSpPr>
            <p:cNvPr id="96" name="Rectangle 4"/>
            <p:cNvSpPr/>
            <p:nvPr/>
          </p:nvSpPr>
          <p:spPr>
            <a:xfrm>
              <a:off x="4362480" y="5757840"/>
              <a:ext cx="40766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cc"/>
                  </a:solidFill>
                  <a:latin typeface="Arial"/>
                </a:rPr>
                <a:t>2 hydrogen atoms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Line 7"/>
            <p:cNvSpPr/>
            <p:nvPr/>
          </p:nvSpPr>
          <p:spPr>
            <a:xfrm flipH="1" flipV="1">
              <a:off x="2612520" y="5533920"/>
              <a:ext cx="1706760" cy="53208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3617640" y="4916520"/>
            <a:ext cx="4831200" cy="674640"/>
            <a:chOff x="3617640" y="4916520"/>
            <a:chExt cx="4831200" cy="674640"/>
          </a:xfrm>
        </p:grpSpPr>
        <p:sp>
          <p:nvSpPr>
            <p:cNvPr id="99" name="Rectangle 5"/>
            <p:cNvSpPr/>
            <p:nvPr/>
          </p:nvSpPr>
          <p:spPr>
            <a:xfrm>
              <a:off x="5006880" y="4916520"/>
              <a:ext cx="34419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8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ffffcc"/>
                  </a:solidFill>
                  <a:latin typeface="Arial"/>
                </a:rPr>
                <a:t>1 oxygen atom</a:t>
              </a:r>
              <a:endParaRPr b="0" lang="en-US" sz="3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Line 8"/>
            <p:cNvSpPr/>
            <p:nvPr/>
          </p:nvSpPr>
          <p:spPr>
            <a:xfrm flipH="1">
              <a:off x="3617640" y="5262480"/>
              <a:ext cx="1406520" cy="1116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 Chemical Formula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1680" y="1649160"/>
            <a:ext cx="8093160" cy="18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Shows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1) elements in the compound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2) ratio of their ato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19920" y="2970360"/>
          <a:ext cx="2485800" cy="19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970360"/>
                    <a:ext cx="2485800" cy="19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 Chemical Bond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1680" y="1958760"/>
            <a:ext cx="8248680" cy="42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trong attractive force between atoms or ions in a molecule or compound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Formed by: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ransfer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 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losing or gaining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ha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Stabil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2040" y="1649520"/>
            <a:ext cx="8515440" cy="34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Octet Rule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most atoms form bonds in order to have 8 valence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ull outer energy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ike the Noble Gases!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09" name="Group 23"/>
          <p:cNvGrpSpPr/>
          <p:nvPr/>
        </p:nvGrpSpPr>
        <p:grpSpPr>
          <a:xfrm>
            <a:off x="6270480" y="3033720"/>
            <a:ext cx="2235240" cy="2193840"/>
            <a:chOff x="6270480" y="3033720"/>
            <a:chExt cx="2235240" cy="2193840"/>
          </a:xfrm>
        </p:grpSpPr>
        <p:sp>
          <p:nvSpPr>
            <p:cNvPr id="110" name="AutoShape 5"/>
            <p:cNvSpPr/>
            <p:nvPr/>
          </p:nvSpPr>
          <p:spPr>
            <a:xfrm>
              <a:off x="6270480" y="3033720"/>
              <a:ext cx="2235240" cy="2193840"/>
            </a:xfrm>
            <a:custGeom>
              <a:avLst/>
              <a:gdLst>
                <a:gd name="textAreaLeft" fmla="*/ 510120 w 2235240"/>
                <a:gd name="textAreaRight" fmla="*/ 1725120 w 2235240"/>
                <a:gd name="textAreaTop" fmla="*/ 500760 h 2193840"/>
                <a:gd name="textAreaBottom" fmla="*/ 1693080 h 219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6840360" y="3673440"/>
              <a:ext cx="10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Ne</a:t>
              </a:r>
              <a:endParaRPr b="0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2" name="Group 8"/>
            <p:cNvGrpSpPr/>
            <p:nvPr/>
          </p:nvGrpSpPr>
          <p:grpSpPr>
            <a:xfrm>
              <a:off x="6708600" y="3879720"/>
              <a:ext cx="174960" cy="547920"/>
              <a:chOff x="6708600" y="3879720"/>
              <a:chExt cx="174960" cy="547920"/>
            </a:xfrm>
          </p:grpSpPr>
          <p:sp>
            <p:nvSpPr>
              <p:cNvPr id="113" name="Oval 9"/>
              <p:cNvSpPr/>
              <p:nvPr/>
            </p:nvSpPr>
            <p:spPr>
              <a:xfrm>
                <a:off x="6708600" y="4245120"/>
                <a:ext cx="17496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708600" y="3879720"/>
                <a:ext cx="17496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11"/>
            <p:cNvGrpSpPr/>
            <p:nvPr/>
          </p:nvGrpSpPr>
          <p:grpSpPr>
            <a:xfrm>
              <a:off x="7893000" y="3879720"/>
              <a:ext cx="174600" cy="547920"/>
              <a:chOff x="7893000" y="3879720"/>
              <a:chExt cx="174600" cy="547920"/>
            </a:xfrm>
          </p:grpSpPr>
          <p:sp>
            <p:nvSpPr>
              <p:cNvPr id="116" name="Oval 12"/>
              <p:cNvSpPr/>
              <p:nvPr/>
            </p:nvSpPr>
            <p:spPr>
              <a:xfrm>
                <a:off x="7893000" y="4245120"/>
                <a:ext cx="17460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Oval 13"/>
              <p:cNvSpPr/>
              <p:nvPr/>
            </p:nvSpPr>
            <p:spPr>
              <a:xfrm>
                <a:off x="7893000" y="3879720"/>
                <a:ext cx="174600" cy="18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14"/>
            <p:cNvGrpSpPr/>
            <p:nvPr/>
          </p:nvGrpSpPr>
          <p:grpSpPr>
            <a:xfrm>
              <a:off x="7124760" y="3558960"/>
              <a:ext cx="526680" cy="182520"/>
              <a:chOff x="7124760" y="3558960"/>
              <a:chExt cx="526680" cy="182520"/>
            </a:xfrm>
          </p:grpSpPr>
          <p:sp>
            <p:nvSpPr>
              <p:cNvPr id="119" name="Oval 15"/>
              <p:cNvSpPr/>
              <p:nvPr/>
            </p:nvSpPr>
            <p:spPr>
              <a:xfrm rot="16200000">
                <a:off x="7472520" y="3562560"/>
                <a:ext cx="182520" cy="17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 rot="16200000">
                <a:off x="7121160" y="3562200"/>
                <a:ext cx="182520" cy="175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7124760" y="4519440"/>
              <a:ext cx="526680" cy="182880"/>
              <a:chOff x="7124760" y="4519440"/>
              <a:chExt cx="526680" cy="182880"/>
            </a:xfrm>
          </p:grpSpPr>
          <p:sp>
            <p:nvSpPr>
              <p:cNvPr id="122" name="Oval 18"/>
              <p:cNvSpPr/>
              <p:nvPr/>
            </p:nvSpPr>
            <p:spPr>
              <a:xfrm rot="16200000">
                <a:off x="7472160" y="4523040"/>
                <a:ext cx="182880" cy="175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 rot="16200000">
                <a:off x="7121160" y="4523040"/>
                <a:ext cx="182880" cy="1756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Rectangle 22"/>
          <p:cNvSpPr/>
          <p:nvPr/>
        </p:nvSpPr>
        <p:spPr>
          <a:xfrm>
            <a:off x="392040" y="5353200"/>
            <a:ext cx="851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255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tability is the driving force behind bond formation!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9920" y="2274840"/>
            <a:ext cx="8753400" cy="1598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149400" y="4873680"/>
            <a:ext cx="8843760" cy="164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Stabil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2040" y="149832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ransfer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2040" y="4089240"/>
            <a:ext cx="77724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haring e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jeremy</dc:creator>
  <dc:description/>
  <dc:language>en-US</dc:language>
  <cp:lastModifiedBy>Meldon Jeremy</cp:lastModifiedBy>
  <dcterms:modified xsi:type="dcterms:W3CDTF">2011-11-11T23:46:50Z</dcterms:modified>
  <cp:revision>107</cp:revision>
  <dc:subject/>
  <dc:title>I. Why Atoms Combine</dc:title>
</cp:coreProperties>
</file>